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13F-0CF4-4A7F-A8CF-EF6AF73F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CF1-9EED-4396-AAD0-D6C5941E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603-BDF9-4F0F-877B-1D6D74BE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C7E-B52F-464B-BE86-4025426C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673-6786-4197-860B-BE27C725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61C-A2A0-4EC8-A457-802B6798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392-BB24-4E5F-90FA-5C07835E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6D8-6382-46FF-A960-79417F20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E10-F248-4B50-B808-ABB8E121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0A9-3045-4AC9-88CA-83D29B6C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1EB-1890-42D8-9BF5-C9C4FCF0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52A-C1EE-4745-ADCB-A8B641A7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4D4-447D-47A2-BA66-BD67A2A951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6160" y="1523880"/>
            <a:ext cx="7887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ed Estimat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eighting b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6672"/>
          <a:stretch/>
        </p:blipFill>
        <p:spPr>
          <a:xfrm>
            <a:off x="685800" y="533520"/>
            <a:ext cx="731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685800" y="7621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5859"/>
          <a:stretch/>
        </p:blipFill>
        <p:spPr>
          <a:xfrm>
            <a:off x="838080" y="83808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474"/>
          <a:stretch/>
        </p:blipFill>
        <p:spPr>
          <a:xfrm>
            <a:off x="838080" y="533520"/>
            <a:ext cx="739152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44009" t="77632" r="40002" b="7610"/>
          <a:stretch/>
        </p:blipFill>
        <p:spPr>
          <a:xfrm>
            <a:off x="1905120" y="5334120"/>
            <a:ext cx="167616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5257800"/>
            <a:ext cx="4572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334120"/>
            <a:ext cx="10666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1143000" y="990720"/>
            <a:ext cx="7086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106668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533520" y="6094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3948"/>
          <a:stretch/>
        </p:blipFill>
        <p:spPr>
          <a:xfrm>
            <a:off x="685800" y="137160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975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914400" y="990720"/>
            <a:ext cx="7162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9404"/>
          <a:stretch/>
        </p:blipFill>
        <p:spPr>
          <a:xfrm>
            <a:off x="762120" y="114300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68580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609480" y="533520"/>
            <a:ext cx="80773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410"/>
          <a:stretch/>
        </p:blipFill>
        <p:spPr>
          <a:xfrm>
            <a:off x="68580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6:18:44Z</dcterms:modified>
  <cp:revision>217</cp:revision>
  <dc:subject/>
  <dc:title>Slide 1</dc:title>
</cp:coreProperties>
</file>